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104-9B96-49E6-B0E2-96F9C374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6DF-BCFA-40C2-991C-D496C024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8F4-C81A-4E8E-A1FA-368D1D4A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A7B-0A06-4009-99E8-5166F3C0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2AE5-944A-4276-B240-F0C7D360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0891-D43F-42B1-93E2-A11847DB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4E72-88E3-46B0-BEE5-CAB33590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0F33-F6AE-40EA-88FB-E9DD4247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B742-17EA-423D-8ED2-F67B9A6F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545D-79F4-4DD3-8093-D7F81784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2ADA-DD42-4E41-A87A-118BB3AD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FD1C-6FF7-4FD3-A630-0AF64DDF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8E99-F6A7-4776-97F2-7B6674DF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6723-0CF7-479A-80D0-9998C4BC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3013-9164-435B-AE89-708F82B5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4BC4-D9AB-4B58-96E4-69967EC1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43F1-1F41-4152-BC6F-49DAB092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F251-D707-4060-9017-C2201CC6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ACED-0868-4ECA-A173-B261ADBF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DA9C-AFFC-4299-9837-B72E37B3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544E5-B80B-42AB-8495-31481A6D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5780D-0A96-4110-8F1C-6CC91C46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F3D-6670-40F4-B94D-10B0797B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40425-AC47-40F9-B667-96AD8A34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49B1-625D-4AA1-ACA8-F17A7356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3ADB8-E44F-492A-BF0E-7AB8D508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27BED-7886-4052-8D66-C8542BA9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94DE1-6692-4598-922D-AE406372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422D7-5758-4F96-92E1-B81CE76E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25993-142A-4785-9AD4-D73D1ABC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789C7-A7C9-4C38-BEE5-8BF03678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A8337-3979-4648-AD76-6CBA8F51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0B556-0A3F-4CEE-A3D1-1F5EFEE9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F6F-260B-44CD-8395-CD19DC64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93FFA-D8DA-4D58-B719-80A7D4D6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114BC-BC81-4098-BFAF-ED86DDAC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43841-DA1F-468A-9B86-8C7AA38B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5AAE2-A0A2-4217-A33C-EF583C92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967C3-B3F0-4262-8054-0BE4EC79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EBD16-FD8F-4612-9E36-80617720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F2BE4-51B7-4791-81BF-5520E7DC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FC2EB-A9BA-497F-91C6-05444444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85DE6-7FC2-4A13-8B0D-9ADDA095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6BB95-C0FD-4DEE-B7CE-A5904798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A2AD-6895-4D4A-9B10-95D5CB3F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E0BF5-250C-4019-B7A8-65355F03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39C37-5461-4AAE-A7EA-9BBB9181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3EA04-2FD7-40FB-A42A-5A841A63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C5AD8-116B-4F4F-959E-13F85BF4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BF7D0-95CF-429E-8F80-77B4E4C2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7D2C7-E865-436F-BF77-509E0AFA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DCAF0-9A78-446B-9145-4384DA7C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6CDBA-65F2-49E6-BD4B-35BABA86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C1875-ECC6-413D-8191-C46D60F2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3B8D7-0665-419D-A98F-2D80AD07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3C2F-7DD6-4660-93FF-F6E1A0DF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AE58D-EAA8-4C09-A309-FD31468C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9B1A7-9BAE-4CB7-8876-E9108D33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F9037-8BC6-475D-88A8-4FA20BE8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427B6-4152-48E2-A822-230764ED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24F02-BEA2-42F0-9FF3-465BA9FB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DF04B-EC80-495A-BB5E-52D809F2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D4FE2-1D4C-492A-ACBD-7C9B4E1B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4E906-71B1-49E5-AF08-C7838B84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A2A03-DE37-491E-9FE5-CFEB067B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5F5AD-99BB-45C6-A1DC-D705544E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91C-D366-4BFF-AC82-B01ACAFD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4F9F1-76A5-4B3A-8126-3CD5706F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9313C-26DA-4C4E-B86F-AA22E1D1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97199-94CC-4952-B63F-EE5FDEDC0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97CC9-6FFC-45AA-9893-A9FDE3B1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BBF2B-7E82-45A3-A393-F95900C1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CC07B-E06D-4E11-913C-14DC9297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0D999-1AD9-4BAE-BEAA-E410059A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E1AE3-CA9F-4CC7-9D55-34B3E63D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CFDC5-BAAF-4EAE-B0C5-7A14D2C7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AE0FD-7C13-41E6-A2DD-5E595646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679-9B61-4316-853A-3D2E645F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1415F-1300-4A0A-9C3A-64841ED6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B53DF-417A-4CF7-832E-9D2E9BF5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4E9F0-B4E5-4FA4-9FAC-2F01774E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86DD0-89A8-4B8F-BEB7-63FE67BF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798F5-5604-45C2-A5C2-8290FDDF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05EA9-B421-4B5E-9936-F0699A95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BF792-AA71-4B79-B3AF-4788B09B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CC4CA-BB06-4FE7-B962-F74A88EC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A9CA2-C6CD-485D-BF0B-A3147309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8E4E2-EA34-4334-89DB-FB4EF3FF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5C1-77CA-4F88-94E5-BBF5776A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C7028-27F0-41CB-A597-1A3D4E0C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9FB87-4A7D-48B2-8754-ED7702F8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5B020-481D-4803-867E-D55E2B29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F7221-2812-407D-B511-90055283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038BF-EC32-45A3-84D0-164D967A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52692-5620-49D6-83C7-2F5F2348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0C105-EFF9-43D1-BD5E-FFB582FB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75CC-6192-46B5-A9CD-6358336C99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FE42-15AC-4527-A7FF-7FD9380B0A4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A4B8-29A9-4DE8-B2D1-BF9A03D3975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52C7-49C8-400A-9993-199D752265E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7834-E909-49E2-A350-1A3DDEBD1A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1DAA-C539-46AB-8916-9D982DB8BF2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858E-4072-475C-B6D2-387DBB65F2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A002-AF8B-4575-B778-CD1A6D87DE7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2" name="Прямоугольник 3" descr=""/>
          <p:cNvPicPr/>
          <p:nvPr/>
        </p:nvPicPr>
        <p:blipFill>
          <a:blip r:embed="rId1"/>
          <a:stretch/>
        </p:blipFill>
        <p:spPr>
          <a:xfrm>
            <a:off x="1206360" y="828720"/>
            <a:ext cx="5639040" cy="33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4" name="Picture 2" descr="D:\школа\мои фото\Фотки\фото комп\100_3125.jpg"/>
          <p:cNvPicPr/>
          <p:nvPr/>
        </p:nvPicPr>
        <p:blipFill>
          <a:blip r:embed="rId1"/>
          <a:stretch/>
        </p:blipFill>
        <p:spPr>
          <a:xfrm>
            <a:off x="928800" y="714240"/>
            <a:ext cx="6654600" cy="5292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6" name="Picture 2" descr="D:\школа\мои фото\Фотки\фото комп\100_3115.jpg"/>
          <p:cNvPicPr/>
          <p:nvPr/>
        </p:nvPicPr>
        <p:blipFill>
          <a:blip r:embed="rId1"/>
          <a:stretch/>
        </p:blipFill>
        <p:spPr>
          <a:xfrm>
            <a:off x="1560600" y="1481040"/>
            <a:ext cx="602280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8" name="Picture 2" descr="D:\школа\мои фото\Фотки\фото комп\100_3114.jpg"/>
          <p:cNvPicPr/>
          <p:nvPr/>
        </p:nvPicPr>
        <p:blipFill>
          <a:blip r:embed="rId1"/>
          <a:stretch/>
        </p:blipFill>
        <p:spPr>
          <a:xfrm>
            <a:off x="928800" y="571680"/>
            <a:ext cx="7143480" cy="5574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0" name="Picture 2" descr="D:\школа\мои фото\открытый урок р.я. 1 класс\100_2723.jpg"/>
          <p:cNvPicPr/>
          <p:nvPr/>
        </p:nvPicPr>
        <p:blipFill>
          <a:blip r:embed="rId1"/>
          <a:stretch/>
        </p:blipFill>
        <p:spPr>
          <a:xfrm>
            <a:off x="1554120" y="285840"/>
            <a:ext cx="7304040" cy="5721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фрагментарное использование в зависимости от этапа урок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ндивидуальное обучение конкретного ученик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олучение учителем информации  и управление  работой каждого ученика на отдельных этапах урок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очетание индивидуальной работы ученика с коллективной работой всего клас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9780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3"/>
          <a:stretch/>
        </p:blipFill>
        <p:spPr>
          <a:xfrm>
            <a:off x="500040" y="1285920"/>
            <a:ext cx="8061480" cy="4786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87" name="Заголовок 2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3"/>
          <a:stretch/>
        </p:blipFill>
        <p:spPr>
          <a:xfrm>
            <a:off x="571680" y="1400040"/>
            <a:ext cx="7858080" cy="4670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7:42:00Z</dcterms:created>
  <dc:creator>Анапа</dc:creator>
  <dc:description/>
  <dc:language>en-US</dc:language>
  <cp:lastModifiedBy>Наталья Владимировна</cp:lastModifiedBy>
  <dcterms:modified xsi:type="dcterms:W3CDTF">2009-04-15T08:37:11Z</dcterms:modified>
  <cp:revision>3</cp:revision>
  <dc:subject/>
  <dc:title>Слайд 1</dc:title>
</cp:coreProperties>
</file>